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25.wmf" ContentType="image/x-wm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96C-CD60-416C-A709-D2A77FF7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458-7DFD-4090-B170-FC333177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F62-DFC2-432D-95AA-0A10E059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08B-67C2-4C36-93FC-22F0CFD1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DD9-AF9F-4344-9852-6936D615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6C2-3768-4C45-AFBD-86E6A900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588-546C-4260-9CF6-44936C26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1CF-88AC-43FC-971C-D680768A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D35-AE69-42D2-A0F7-479E6AAE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4EED-98FD-47B1-8236-6376DA6F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D6E-C1D9-4423-8C66-60B65C79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45C-EF16-4830-8717-6ACA792F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FF17-EB56-480D-A280-6F4194FCD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rmscontrolwonk.com/693/thinking-about-the-unthinkable-a-couple-meters-underground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APONS: Conventional &amp; Non-Conven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Examination of Weapons and Military Tactics of the 20th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486400" cy="437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81280" y="5181480"/>
            <a:ext cx="205740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uise Mis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conventional 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ical/Biological 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20960" y="1981080"/>
            <a:ext cx="1338120" cy="1981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040" y="2708280"/>
            <a:ext cx="137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al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i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i La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581280" cy="2736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009760" y="491796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tnamese child: Agent 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29923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8188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103640" cy="518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86480" y="2004840"/>
            <a:ext cx="1933560" cy="1933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187960" y="4114800"/>
            <a:ext cx="2730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3809880" cy="3409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1280" y="419112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avy Crock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648320"/>
            <a:ext cx="156207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ivalent to 10 tons of TNT, or two to four times as powerful as the ammonium nit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mb which destroyed the Alfred P. Murrah federal building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klahoma City on April 19, 1995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543800" cy="365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0920" y="52992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can a limited nuclear weapon 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armscontrolwonk.com/693/thinking-about-the-unthinkable-a-couple-meters-under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utually Assure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tiballistic Miss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uise Miss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mall, pilotless jet aircraft; flies at low altitudes; easy to launch, and; very accu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omsday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RV: mulitple independent re-entry vehi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4572000" y="419112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pons and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nife ex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290520"/>
            <a:ext cx="83055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486240" cy="2417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1360" y="32418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M in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8560" y="4114800"/>
            <a:ext cx="158292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720" y="62136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038480" y="3276720"/>
            <a:ext cx="4648320" cy="2620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250520" y="606096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RV in attack (note AB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sinki Acc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97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spirit of détente; issues resolved that were unresolved from Potsdam, recognition of east European boundaries, while US gets human rights issues recogn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CB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tercontinental ballistic missile; range up to 14 500 km in 3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mited nuclear w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argets are industrial or military only; no c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clear-free z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eographic zone free of all nuclear weapons in every asp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clear prolif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spread of nuclear weapons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rizont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eapons to new owners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ertic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in a nuclear arse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ceful coexist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Khrushchev’s idea of political rather than military competition between superpow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hing miss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ballistic missile for short to medium 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trategic Arms Limitation Talks; SALT I (‘69-’70) limited build up; SALT II was never ra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D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trategic Defense Initiative (1985); Star Wars; satellite defens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B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marine launched ballistic miss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84600" y="0"/>
            <a:ext cx="15206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2120" y="0"/>
            <a:ext cx="380880" cy="667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666880"/>
            <a:ext cx="35132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WHAT 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A-BOMB OR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69600" y="879480"/>
            <a:ext cx="7198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1952 scientists had combined fission with fusion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98440" y="1523880"/>
            <a:ext cx="398772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amming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cle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for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li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create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rmo-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in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8480" y="3200400"/>
            <a:ext cx="57556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-Bomb or Hydrogen Bo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4520" y="3962520"/>
            <a:ext cx="6089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 times the size of Hiroshima and Nagasa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32200" y="4950000"/>
            <a:ext cx="7547760" cy="1312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utron Bomb: Kills all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ngs, but leaves buildings int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3581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8410"/>
                </a:moveTo>
                <a:lnTo>
                  <a:pt x="8224" y="8410"/>
                </a:lnTo>
                <a:lnTo>
                  <a:pt x="12645" y="3797"/>
                </a:lnTo>
                <a:lnTo>
                  <a:pt x="12645" y="17810"/>
                </a:lnTo>
                <a:lnTo>
                  <a:pt x="8224" y="13197"/>
                </a:lnTo>
                <a:lnTo>
                  <a:pt x="3794" y="13197"/>
                </a:lnTo>
                <a:close/>
              </a:path>
              <a:path fill="darken" w="21600" h="21607">
                <a:moveTo>
                  <a:pt x="14299" y="10804"/>
                </a:moveTo>
                <a:lnTo>
                  <a:pt x="17806" y="10804"/>
                </a:lnTo>
              </a:path>
              <a:path fill="darken" w="21600" h="21607">
                <a:moveTo>
                  <a:pt x="14299" y="8410"/>
                </a:moveTo>
                <a:lnTo>
                  <a:pt x="17806" y="5642"/>
                </a:lnTo>
              </a:path>
              <a:path fill="darken" w="21600" h="21607">
                <a:moveTo>
                  <a:pt x="14299" y="13197"/>
                </a:moveTo>
                <a:lnTo>
                  <a:pt x="17806" y="15965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knives: two law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3244680"/>
            <a:ext cx="3809880" cy="158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8320" y="2967120"/>
            <a:ext cx="38098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4440" y="552780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yderco Tactical F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52200" y="5451480"/>
            <a:ext cx="41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isong: gravity opening kni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e Point of La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irit of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int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tter of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the law articul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al 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2552760" cy="142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106668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lashnikov AK-4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3209760" cy="1171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87640" y="25146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09480" y="3505320"/>
            <a:ext cx="2847960" cy="171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541008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13 A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257800" y="380880"/>
            <a:ext cx="3552840" cy="2048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828960" y="4191120"/>
            <a:ext cx="5315040" cy="2342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640120" y="35053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6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3880" y="1400040"/>
            <a:ext cx="6096240" cy="4057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81080" y="5486400"/>
            <a:ext cx="53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ircraft Carri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SS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1376280"/>
            <a:ext cx="6096240" cy="4105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5240" y="548640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cDonnell Douglas AH-64 Apache Attack Helico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760" y="743040"/>
            <a:ext cx="8934480" cy="5371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040280" y="60958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1T05:37:33Z</dcterms:created>
  <dc:creator>HughP</dc:creator>
  <dc:description/>
  <dc:language>en-US</dc:language>
  <cp:lastModifiedBy>hughp</cp:lastModifiedBy>
  <cp:lastPrinted>2001-01-09T20:49:13Z</cp:lastPrinted>
  <dcterms:modified xsi:type="dcterms:W3CDTF">2007-04-19T17:33:46Z</dcterms:modified>
  <cp:revision>5</cp:revision>
  <dc:subject/>
  <dc:title>NUCLEAR WEAPONS &amp; SUPER POWER INTERACTIONS</dc:title>
</cp:coreProperties>
</file>